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235C-7AF0-4B1E-8B19-F6A244B5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397E-87A6-4AAF-AC1B-866EF18D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07FA6-FB4A-429B-948B-E5529F73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1BDDC-F5E5-4880-BD8B-5758FEE4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2FF3B-47C5-4004-BB0B-1662168C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D9D6D-1780-4868-A330-D1797C22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67D6F-E7A6-4B98-B7F0-B5B40460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E4B13-B883-4914-9850-1F007805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0D51C-D434-4336-A189-2D75B83E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F5B3C-8FB7-4CFB-87A2-ADF32C91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FB390-C9D9-4FE6-A92A-2BC7FD2E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A329E-1B8D-42E1-831F-886B0965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0A1F-1484-43FD-A81C-6C82B972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074B8-3CDC-4296-B9D0-47F8CA37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01E9E-7F99-45F1-AA40-3FE5E852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4CE0B-4C98-42B9-A081-7ED18F30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0EE27-0059-4143-B212-D83A1F2B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2C007-BFB6-49A1-B8A0-3CE7DD2D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83DD0-F5FC-40AF-A4C1-2FD424AB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47A3E-866A-4D9B-9952-A3630486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03FA7-23A4-44F6-8F7C-4D8C11E5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9CB5C-94C5-4E19-93F8-11B398BD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2158D-736A-4AE9-86EA-DEF3D991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789F-91C2-4659-B206-AEC590A6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8C430-AD2B-47C6-8C65-E215C9BD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39ADA-EF6A-48AE-8C51-166A201A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3A674-4DC9-4C67-9F95-8ECC48C0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8889F-9F9C-4995-8A0E-5C161287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FF4E9-205C-42A7-B8DA-70936D68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82FC4-CFA3-466D-A701-5AD03146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AE5DE-8853-4068-89EB-257625FD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0E467-A22D-446D-B9BB-4DFA40F8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22EC3-250A-4EC1-930B-A5499F25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C0C48-1816-473A-BF93-CA0C0CAD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1BDD-68D3-4316-BC65-0DEC6EC3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B74B5-B03E-4364-9585-0E5C2739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6D99F-AF2C-4F8A-8FC1-BB429B08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3D86C-8C5F-46DA-B42E-D511A3DC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72696-8373-408D-82AD-2B9CE70D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06A55-9A5F-482C-9DD4-04012786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C5A84-BD0C-4265-8F16-BE01A8B8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01F9B-3FEA-43F1-BC85-73EE9564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AD276-DE8F-47CC-9281-4CFBBDA6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68749-C997-4FC9-BDD3-F5BD1476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293A2-CDDE-4431-AF46-493DCF12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210C-7E2A-46C5-9157-F7AF74A5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01298-BA34-4ABD-AAB0-90432748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34487-FB5A-41D4-BE9A-D61757DE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B28CB-76C3-42C8-B30D-9EECDB7A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FF885-3DDC-41A2-B26C-A9725607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EBECF-58B0-4AD9-BA35-9EBF3B55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36D49-814E-45BC-954E-908AF498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8471BF-6255-4B8B-8BC9-7818A6ED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70F580-198F-4A34-B2B5-5307A452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005907-31E3-4F9F-9E5B-9BEC827B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7E5CFE-5370-4387-99B5-62D05905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5291-4EC0-4102-9F8D-3A999A58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61FB6D-E320-44D2-8F10-0567188A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CADE3-7192-4473-AC16-1CCE8D62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CDDECF-AF06-4E64-B6AB-DCC80365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8AB116-7BAA-4CFC-8E1B-C8ED55A4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3FA0E1-9E85-4BF4-B6F5-CFDA7350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64B369-5BB7-4F35-BF81-B7C31E8D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478441-AD14-49C4-A193-D0FFBA38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E0D062-1B85-48DF-AD87-BDD2381A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97751C-1552-4CE0-9074-2C320E5B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FA77C3-8FE0-4A7F-9104-342449A8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2B45-11DD-44D1-8943-32960535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3EBE54-B832-4E66-8A16-16E963C8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A2E108-2421-4EC9-8FB0-97AF1266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79C501-5285-42FA-AF85-753C72D1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ABCB67-F258-4B50-B5BC-3CACB6B8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1CD32E-8CCF-4006-8B66-A55A428A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E12EB1-6813-4DC4-AB23-38116968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E506A7-B9A9-48FE-88BE-B69745E3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502B71-52D5-4371-8548-9DED4AD0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E61B2B-1292-4088-B005-4F265055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4285A9-6452-4911-B15C-E9155308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99CF-02A2-40D2-B24D-3326D6A5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22C52C-6F4A-4D67-A3D6-BE6D153A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3A2F38-276B-4FD8-B5B5-B2958626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88B4D0-86D7-4EAF-AA64-AA1FD073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FAD9E0-7979-487E-9F1E-7F587C6D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9D0471-7364-4CC8-B5AA-AF1EF014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4E9912-D787-47C4-A080-FF52F44D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CE7E3D-0F3E-48C1-928E-2DB9AF57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EFAB2E-F3F3-44FE-AAAA-5FA96AA0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8EC10E-CE2E-4549-B764-2E6E575D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475123-DFB1-4AC7-BB92-B9C06DDD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6D07-4B64-46F7-8117-AC0FC56A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4D4DC0-665F-4896-A6CE-2ABFA505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F61CD6-9459-485E-AE5D-F6154A70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A7C818-41FD-4275-9270-CCA65D0A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99C48D-E946-4C3A-BCB3-89A636F3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9F5AFF-6DCF-4C02-B5E1-2987E680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B2C00A-A782-452D-8A73-D452D687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28AC14-4ED6-460F-8FAF-1B4DE8A6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894508-ADE7-42EF-9A91-6F22911D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C80890-C7C1-4BFA-8819-A245346D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9F4284-B4FB-4877-AEC2-F8093071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1AFE-DCAE-4D98-AE28-75AF07A8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896490-A0EA-41BB-9CC6-0505AFDD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D99305-350A-405D-8F10-EE081BC3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85E6B4-868E-4D35-A481-14991EFF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3D3203-EF94-418A-81E6-B73C2132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88CBEE-67ED-4778-8F7A-7108C2AC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F5D1C7-FBD0-4139-A859-05AFBAEF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2428B6-3E68-4E64-B214-30C0D396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7C302D-739F-4819-A205-CB17B4BC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BA4E92-3DDE-490C-884E-38F71969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5C6336-0547-4275-A2C9-361F159D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194E-02E8-49DC-BF2A-3D7CF8C6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5B75-A771-46C1-AD25-E2E316EE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D37CB3-61D3-4D4D-A220-B33607BB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9622E2-210A-4314-92B1-9D6B1896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CD26E4-03A8-4641-A0C9-2CB58D05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5CDF5F-49E4-4297-86A8-84C4D5C9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0A174B-604D-4D2C-B2CA-44C0D11D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3DDD50-A08D-4A9E-9045-B44F50E8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7583EE-9435-4FA2-8AA4-902D53DF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5DDA31-148F-4206-8F98-7423A7B3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D99561-9D07-4E91-9D90-4BACB23F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442332-53C1-4C2B-89AD-C2E507F8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92EF-2250-4DCB-A5A7-0B054FA6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A4E86E-D4E6-46C0-9A5E-35FDC2FB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4B2771-AFA4-461C-BC7E-4E622B88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5D9902-1451-4238-A10D-00DB5D96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554167-B99D-4982-B26D-8C8A0B38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5AE856-9667-46AE-9814-8C2B4BB6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9E6FE3-DA69-4A67-AB86-A75253CD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E06562-DD2F-4635-8FB2-1533C7D1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4ABBAC-E18A-42E1-8B22-C9C65C7EB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16E3C8-5983-4827-BBDE-768BC657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444432-DBAB-459D-8079-33051864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4A21-C9A6-4365-8734-6A0391F0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11E059-0184-47D6-817B-3E21CE9D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91D768-4324-4A0A-B674-90145275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C716B1-097B-4C85-91CA-15756880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D2487D-2CD5-410B-A5D3-6BADDDE7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E49159-0B3A-48D5-996B-B1635462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212F67-6C10-4381-8F85-83CAE7D0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53C952-3BA5-400F-B31F-1FDE3340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5842FF-53AE-49E9-9D48-348F68DC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E3B471-2B75-4395-8494-400141CB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297C31-A513-40B3-9497-BCB5D1DF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4C6D-CFAE-4943-A1C8-F4BBA440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0B902A-A8D9-480F-B2DC-DADA24C3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7CD84C-99B0-42DB-B2DB-59767A37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0FCC3F-462B-489A-8592-DF8DFB7F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A3BD19-1EEF-43F3-AF71-C9B58126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6AB4DF-0366-4F50-800D-81304F47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B75361-5F62-4ADC-BB2B-B3D41B00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66CBF3-86A7-405F-8A46-105D2D63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274E24-F168-4E2E-9BA5-E9E30198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9BEB9F-6A91-4971-A513-D939E8B2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C8A9C7-7586-4BDB-897F-7A09C410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1AEE-F761-4F5A-9C6F-33F3FBAB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D461A3-FB7C-4AFF-8AAC-1BB144B1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3658FD-EBEC-485F-8453-276E3C45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A1AA98-F272-4DC8-BF43-9FD87F52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4F06BB-34D1-4031-B609-02FC5E63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3241FD-A848-4623-B9C4-C1165C8C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2977EC-1D48-4880-8032-7B5DB84A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D469A8-5746-48F5-A9F4-3966E89A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73B437-8D7F-4A7B-9125-9C3AF552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8C0B96-54CB-47F5-8583-4912D492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A50786-2646-4994-93EA-84307FE0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02DB3-3F83-4551-B007-9B94BFDF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0DDF83-ED75-49B8-9E77-C40314EA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F04773-06AB-4449-B1D4-15ED599F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411D0F-0CC1-4F14-A41B-9CAE4E74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9E73E8-D443-4CA1-97FA-F1C0CF28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6AF805-28FB-4F1C-8C0B-59245219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C4C822-1017-4290-AE4F-F44328CF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418123-AB30-4918-8CBD-6E30B982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E406B4-ED35-49CA-85C4-F32716B1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5CB0C2-8202-42F7-B644-8FB7F48B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551FE7-7E1A-4306-9F25-F22E1D5C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3E5A3-4F9A-4B3C-9B79-9A4A74BC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47C54C-E9DD-42C8-AACA-1620EC3D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10AB44-2871-423C-B306-C5638A30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F2549B-854F-419F-8D86-6A9ED8AB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D92466-128F-4F45-9405-D2A455DE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98654F-C6E7-458F-8A60-592CAFFE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FD12BF-7B07-400B-A563-DCCB4C1A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F71BA4-F4A1-48B6-ADF4-9901BEE8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BC39C5-E26C-4471-9702-AB61EC01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5F8E99-AFF3-4C90-A6B9-85F85534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C36A3A-48E1-4A00-910E-B87E4438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E41E3-3764-4F17-A193-634D0D2E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7DD01E-751B-478A-A647-020918F1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A8F83B-1429-443A-8DC4-FEFC3F61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21099C-2497-4E50-A88D-0F20083D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E1D758-0BAC-4DE3-A17D-E4814775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1CDB3A-827C-437E-9684-D7EE2AF4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143D71-2208-4A54-80D3-2C0CC382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E44768-90D1-4706-9D2E-FD2B2EDB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5C755A-9330-4EFD-BDDA-9E5305C1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832C36-C80B-47A9-976B-2145C880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7DC450-AC23-4E76-A781-067539BC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AC0FE-D56E-498E-9F60-D869B8C3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886852-89A4-4025-8A47-EA78F7A2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8C3A81-756E-4645-A879-596522D8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6DA884-93D4-4C5E-985E-1D3FABB3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818AEA-87DF-4EF2-B3D7-8B6FB029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7EDF22-7FFF-4685-B0E4-DE43FBE7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BD44F7-6AE1-4F9B-86E2-05FE4B1D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0475D0-A9BF-455D-8E02-51E4BB8F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ECB763-942A-4746-95E1-17A7D042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285B77-77B9-48DA-9EF3-4A98DABA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D60113-9E0D-4247-8B1E-18E0FDB3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D2F91-0DD9-4541-A0A3-946032DD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FE3862-D6F7-47EF-9368-F2F4D0CC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F0ACB2-DEB4-43B8-996F-40D34EC9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5AB490-2CA5-41FF-B57F-198CBE3A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849B76-A837-4BF3-B92B-0DF897D1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F52C3C-958A-47D3-BF3C-61152568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4D6C34-0EDD-425D-A99B-57014992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BB0811-A3DD-4955-9F16-D661DED6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AA44D3-BD1E-4497-AB05-D95E7CF8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5152AF-31DC-45FB-AEF4-2BB634FF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EDF02F-B66C-4434-B431-CA57597A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2F24-FF2B-4E03-8FB4-99B2A6B2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BD0EC-49AC-4C72-8AE7-7975F412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B8A58D-1838-4503-B7EE-C2B5FB45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376DC5-B0F9-4F04-91FA-E0BDA79F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03AF24-A1E0-48A5-A38D-43D1280A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51DF06-FFA6-492E-8248-23E8DAFB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6C9FF4-E005-4BCA-B80C-51B27183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15C4DF-A039-475A-9B3B-8A41121D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32EE7F6-C2FE-47A5-967E-21B9E3CD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7E706A-3B85-46B0-9F6B-53F94385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E357E9-4257-4831-AB37-D04E3210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BD228F-3B67-4988-BBAD-82F163B2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2AB47-637D-465D-9A3B-F3DC82B3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4FE68E-3652-4FC1-8A9E-A5ECDD35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D7A66F-C68B-45CC-94E5-C073AB23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AC67F2-9368-49D5-BAA6-FCF4C38D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763D74-D365-41ED-BDF2-E5296B90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FB9C00-E8C6-4066-B60E-05CDD357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416A86-736B-45E8-B674-1A7F7193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62C77F-75ED-4FD5-BA0A-950674D6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F0B59D-63C6-45FD-A19C-75C37F76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072904-E4C2-4046-9D29-1EFE8A76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5B56F9-0615-45C1-A94B-FAE65C9F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231DC-4BBD-4726-B3C2-CF12BE4D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B5CE98-B0A2-46E0-953D-142541C7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A94F21-EAFB-450D-961B-A2BF1230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EC8BBC-0353-48B1-9C8E-9D87288F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BEC11A-100C-49AC-B6E9-E4B004BB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2E2AE2-2EFB-4E71-91E4-547E5785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8B7579-F746-48FD-BEB1-5C309573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6969C9-3871-4131-90D2-D815871B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19A564-C722-444E-A568-131ABFCC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DF622C-96BC-4BA4-A98C-2BD608A6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DEBFBA-7E14-484E-B32D-07607B23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EEAE7-3FF9-40EF-B31F-1DA7E255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3FAF09-4884-4308-8EBB-CE1D228C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640B46-0AB6-4680-AA9F-7DCF4882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052220-A975-4862-B381-512EA20A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24A866-8BAD-45F8-832F-9A7F6501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6DE765-7791-40A2-9AB6-5BE4C62D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F2A831-9BC3-4B53-8F15-FA3D4D65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92A13B-9645-4206-9867-E33522FB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3D3EB1-7EDE-44DF-86FA-EBAD2A37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CE01E0-911B-4563-8342-D454A4B0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511E1C-6A57-4333-ACCD-D036C8BC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ADBB6-F77A-4E00-ABF0-138CD175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3C2BB8-89F1-48DC-B7A2-43A7A122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5E7CF05-86B7-4846-9C42-7BFD678B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146ED7-305B-4882-B200-A2860F4E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81E4D4-4906-41AE-80B8-40EA87AD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C43CB3-600C-4004-9A98-75427246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DD14FE-25B5-4ED1-8AE9-1C547394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46A2BEB-9725-4A0F-915F-DEAAFCBA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F8E4DB-CE35-487A-B653-75F07F39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7B64D3-AAE3-4E51-A08C-FAE54F52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46C47F-0357-46FE-829A-C704498A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688CB-8120-4268-8FFD-0997C994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25956D9-A9B5-4F56-9DF9-5E8F2338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CB0DE7-78AE-4EFF-A275-D3429E1B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F5FF22-0D1F-4C4F-ACDC-12BC1B8D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463479-27B7-49F1-8AA1-6AA7F8C2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B3E6BA-D795-40E3-92D7-7978C768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B2FBA8-8C15-4FF2-B408-82E72DB9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257E365-18BC-403A-A333-C4096873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531E87-1CFA-4E87-9920-1931985F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C91415-3A76-4EBA-A831-D53335CC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CEC96A-ABC0-4618-8DBF-87925B8C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2B0D4-89AF-4C13-8F2A-2A88E5E5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D32ABB-A3C7-4D55-86A0-4789D49F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E0F30C-4617-43C5-9B4A-02AF82CC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60F87EA-205C-496D-A319-0CEC4F42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27F1B4-F71D-41B9-9FFE-49A8ECAC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AEFF18-292D-4A02-9B1F-9E9C8810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62567D-A944-4848-A146-F98DF3F0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BA4B7C-92FE-48B1-BE6A-F32BD9ED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D2107A3-0A3C-4BFD-92C9-9187024E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A77305-8E07-4028-AEFF-C1303AF1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CF4B73-7662-4959-94F8-F4B39219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6C86D-E300-4E95-8170-F4AE3DEF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D8B3D7-CAA7-4DFA-977D-D6DA2445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1E9DFA-392F-4E07-B5D5-650C6EA0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2CD16FA-9DC4-456C-88BF-3CFDBA07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3B3C5C1-BF5E-480A-8D80-8325772D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1274AA0-E281-44B1-A613-590742B0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C17EEED-949D-426C-9EE0-C3F872FD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536C246-44FB-44AB-B2DA-F2EEADFB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16E84FC-6176-4E39-9FE6-2308A153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18726B0-E190-49C3-A543-6079CF85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9910CF3-2AF9-4C78-8B21-4B855566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3059B-B638-4C2E-8642-D20C1C40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BC5E64E-C35F-4067-9C9E-D894A282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E788D56-2FD2-4F34-97AA-F1E31BDB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B017C4D-8723-45E9-9503-7CE43379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4E0F70F-381C-4289-951D-063F24AA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69CB4EA-4342-4E13-9A35-9870BE95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1D8F35D-6664-4691-A246-9DE90E2D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7235C35-E7E6-4106-AFA0-0E3D1B13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A09970E-2A12-461F-958F-225A4531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F14DB81-BEEB-4A94-AD3B-BD5356F4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C467220-AAFE-489E-88F1-8658E672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BCED9-A1FE-4190-B9F2-3E95FA33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C1E358D-3757-4D40-B510-81223B60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37C4BEE-7DAA-4171-B527-2D2AB087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7012B2A-CD3C-4068-8239-FA7171F3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D38977E-5309-43ED-BAE6-0F0C52AA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8D6DB6C-0D8B-4F35-9807-F1A502B2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022D8CD-E076-489C-87B1-C600C6AC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1E9EEB-1CF2-45BB-85D3-EFF33FD1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3EE8BAE-00C8-471D-9704-A5B4AD7D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631517-1245-4530-BA90-76685F4E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B8C2F0C-DF88-40B7-B7C0-EBE0FECE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890D-804D-4C46-B3F4-5DD38026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CD347-A7A1-4F2C-839B-8AAF9B8E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E492F33-31A9-4E8E-8842-C299BE98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3B1ABD4-6679-41EB-A75C-46F70A6B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15F7554-2C2C-48C2-A788-D8A551BC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7D63489-1FBC-4687-81EC-77716FE9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DE05111-E3C1-4C0B-8A4B-C5599573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D9DB14A-B341-4499-BCE6-7FD6A505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332E40B-22F6-4E42-94A4-B718DF01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C0AF405-7489-47AD-AB12-C11C57AA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3F5CF71-313C-4FDC-ADC6-F549469F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8606C5C-7F63-4FAE-A568-67AB48D3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25E6B-01FC-4DB0-875D-7D337D15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5AAE399-15EE-4C38-827F-CD34A931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100B8B7-E366-43CE-AB31-06893D41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19E203E-5A43-4952-B8F4-98D64D1E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5BC80CA-0F8A-401E-A864-D0F75E79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8CC7673-3652-4383-8B11-24094828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A7FBFBF-B773-4332-90E6-97B90A66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B1E65E5-46DE-45E8-846B-B0C60D3D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BD768A3-BE0C-46D1-9F11-C5C521BE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0ACC767-4484-4440-99E3-947EB8E0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B43567D-C432-4A3E-9709-32A9D074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68DA7-39FE-45F6-B687-0F24D311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26F3184-7EF2-49B4-A5F1-95336827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01F2ECD-BB82-4B28-947B-8045A427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03396DE-D235-4E61-AF58-4343FD24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577716D-EFE5-478B-9F35-6EF61945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127A09B-D812-49F0-8177-342E9C5E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1C48BA9-EE0F-4F93-BFFA-82922A59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90E92AF-4428-4FCA-963F-811CB84D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4A84657-8AE2-4990-BC60-0C855F2E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E3F307F-F4AA-4168-AF3E-ED29E731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7194CCA-CCD4-464F-8E48-D7FF6DAF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775E6-7F50-42D7-8301-32F62A28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B00C69D-611E-4EA6-9D5D-1374F683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6FC6E49-CF20-4B39-935C-03F20BE6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B33931C-12F2-49F8-A34C-DA5C3C33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3179D-1863-403D-AC14-8E13B245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BD926-0773-4FBE-9172-8C2800ED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B4DD9-7EFB-4828-A942-B91745B1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7BC92-13F8-4410-BA66-24A91CD54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AE33F-5112-4063-BCC9-23FDC4E5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953BC-84BE-47A7-B358-B63FA227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1733-42EF-489F-BD3D-6C7F6114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675EC-79EF-43A2-959E-5057A306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12143-DF99-42A2-BE4B-55BF4C41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AC393-CA9B-4075-A5D5-B6FF8EC8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EEE71-6EA1-462F-8F67-42AACEEB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52D75-9588-4C4E-B69D-2A310FCB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A51BD-8523-4F90-9F3A-A6712B65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0B5A7-81E9-4452-AAE2-D9A49DDF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484A7-1C46-4333-8127-4622C53A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E040F-008A-45FD-A17C-35C7A365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47607-F32D-4025-A3B3-D8F45E82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0374-7BA2-4C40-9476-AA76411D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9B334-93D0-497E-A425-0FAAC206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A154F-2484-4673-91FF-96280A26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BC8C7-35A0-4868-B8BA-C6EAF81D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8C663-4559-4868-ABEB-0E7D0105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DFD0A-897D-4D0D-A506-1635AD4D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46031-59F3-4AAE-A41D-B97BBAEB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A6CEF-AA80-4BF3-B32E-D8D6345B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B2344-0BE4-4772-92DC-06284A3A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01FFB-4F7C-4C54-9CD0-BED06C48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25E94-71C1-4FC6-BB29-C323263C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FD92-C75D-4EB0-8A9E-061A7698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1362D-012C-4EB1-8AEB-1E6C53FD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74E9D-93E8-45D9-AD39-4D29001E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E4149-593A-4346-9C7E-B2A35324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B58B0-910F-4CC0-BD78-0C0291F8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9478E-17B1-49D5-BF59-0B84374F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05346-967D-4BE2-A441-3923D560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D88AF-96BD-4D98-A657-A5DAB5E8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31CEB-ACA7-4425-BE20-DEF96D13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95601-703B-433E-87CB-9ECC0FAB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9BAA2-0D4F-4390-9481-FAF86DFC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F4D9-E5E5-4FB4-83F0-EC04D781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80160-C4D9-4B72-984D-8C160194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0F560-BEFA-4E37-B0B9-A452D71E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E546F-081B-420F-B571-5544D931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3D76A-433B-4C5E-9B08-25B04E97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DE568-1E87-4DBD-93E4-9B2DD1BE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1D10D-F59F-4EF4-A29D-3BDC9F60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4A595-5716-4E32-9AE6-19D090AD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BA26F-796C-40F4-BE85-B39FFE4B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27EC1-6F14-43F5-82BB-8C6456C7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D1A42-2678-4BA4-9147-922A9C07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8479-2DBD-4F29-A613-547F8751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D4421-A193-4A92-9DE3-37CA458C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39EE1-AB75-4165-A97B-4F549940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8873B-2747-4D9E-A6B7-79197608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1B9D4-D43E-4D31-9F78-15B1A0A6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DF3D2-C503-434B-AF48-2E3EB1B0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421FB-14D7-40F0-AFCC-13EFBB92C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0CB34-E14A-4C11-849C-6715641C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B05F4-14D7-4418-B64B-E0D75377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8F330-D63E-41BF-B6A8-E2108EA6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C1916-8F34-4D46-9CFC-F16C7172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93.xml"/><Relationship Id="rId10" Type="http://schemas.openxmlformats.org/officeDocument/2006/relationships/slideLayout" Target="../slideLayouts/slideLayout194.xml"/><Relationship Id="rId11" Type="http://schemas.openxmlformats.org/officeDocument/2006/relationships/slideLayout" Target="../slideLayouts/slideLayout195.xml"/><Relationship Id="rId12" Type="http://schemas.openxmlformats.org/officeDocument/2006/relationships/slideLayout" Target="../slideLayouts/slideLayout196.xml"/><Relationship Id="rId13" Type="http://schemas.openxmlformats.org/officeDocument/2006/relationships/slideLayout" Target="../slideLayouts/slideLayout197.xml"/><Relationship Id="rId14" Type="http://schemas.openxmlformats.org/officeDocument/2006/relationships/slideLayout" Target="../slideLayouts/slideLayout198.xml"/><Relationship Id="rId15" Type="http://schemas.openxmlformats.org/officeDocument/2006/relationships/slideLayout" Target="../slideLayouts/slideLayout199.xml"/><Relationship Id="rId16" Type="http://schemas.openxmlformats.org/officeDocument/2006/relationships/slideLayout" Target="../slideLayouts/slideLayout200.xml"/><Relationship Id="rId17" Type="http://schemas.openxmlformats.org/officeDocument/2006/relationships/slideLayout" Target="../slideLayouts/slideLayout201.xml"/><Relationship Id="rId18" Type="http://schemas.openxmlformats.org/officeDocument/2006/relationships/slideLayout" Target="../slideLayouts/slideLayout202.xml"/><Relationship Id="rId19" Type="http://schemas.openxmlformats.org/officeDocument/2006/relationships/slideLayout" Target="../slideLayouts/slideLayout203.xml"/><Relationship Id="rId20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29.xml"/><Relationship Id="rId10" Type="http://schemas.openxmlformats.org/officeDocument/2006/relationships/slideLayout" Target="../slideLayouts/slideLayout230.xml"/><Relationship Id="rId11" Type="http://schemas.openxmlformats.org/officeDocument/2006/relationships/slideLayout" Target="../slideLayouts/slideLayout231.xml"/><Relationship Id="rId12" Type="http://schemas.openxmlformats.org/officeDocument/2006/relationships/slideLayout" Target="../slideLayouts/slideLayout232.xml"/><Relationship Id="rId13" Type="http://schemas.openxmlformats.org/officeDocument/2006/relationships/slideLayout" Target="../slideLayouts/slideLayout233.xml"/><Relationship Id="rId14" Type="http://schemas.openxmlformats.org/officeDocument/2006/relationships/slideLayout" Target="../slideLayouts/slideLayout234.xml"/><Relationship Id="rId15" Type="http://schemas.openxmlformats.org/officeDocument/2006/relationships/slideLayout" Target="../slideLayouts/slideLayout235.xml"/><Relationship Id="rId16" Type="http://schemas.openxmlformats.org/officeDocument/2006/relationships/slideLayout" Target="../slideLayouts/slideLayout236.xml"/><Relationship Id="rId17" Type="http://schemas.openxmlformats.org/officeDocument/2006/relationships/slideLayout" Target="../slideLayouts/slideLayout237.xml"/><Relationship Id="rId18" Type="http://schemas.openxmlformats.org/officeDocument/2006/relationships/slideLayout" Target="../slideLayouts/slideLayout238.xml"/><Relationship Id="rId19" Type="http://schemas.openxmlformats.org/officeDocument/2006/relationships/slideLayout" Target="../slideLayouts/slideLayout239.xml"/><Relationship Id="rId20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65.xml"/><Relationship Id="rId10" Type="http://schemas.openxmlformats.org/officeDocument/2006/relationships/slideLayout" Target="../slideLayouts/slideLayout266.xml"/><Relationship Id="rId11" Type="http://schemas.openxmlformats.org/officeDocument/2006/relationships/slideLayout" Target="../slideLayouts/slideLayout267.xml"/><Relationship Id="rId12" Type="http://schemas.openxmlformats.org/officeDocument/2006/relationships/slideLayout" Target="../slideLayouts/slideLayout268.xml"/><Relationship Id="rId13" Type="http://schemas.openxmlformats.org/officeDocument/2006/relationships/slideLayout" Target="../slideLayouts/slideLayout269.xml"/><Relationship Id="rId14" Type="http://schemas.openxmlformats.org/officeDocument/2006/relationships/slideLayout" Target="../slideLayouts/slideLayout270.xml"/><Relationship Id="rId15" Type="http://schemas.openxmlformats.org/officeDocument/2006/relationships/slideLayout" Target="../slideLayouts/slideLayout271.xml"/><Relationship Id="rId16" Type="http://schemas.openxmlformats.org/officeDocument/2006/relationships/slideLayout" Target="../slideLayouts/slideLayout272.xml"/><Relationship Id="rId17" Type="http://schemas.openxmlformats.org/officeDocument/2006/relationships/slideLayout" Target="../slideLayouts/slideLayout273.xml"/><Relationship Id="rId18" Type="http://schemas.openxmlformats.org/officeDocument/2006/relationships/slideLayout" Target="../slideLayouts/slideLayout274.xml"/><Relationship Id="rId19" Type="http://schemas.openxmlformats.org/officeDocument/2006/relationships/slideLayout" Target="../slideLayouts/slideLayout275.xml"/><Relationship Id="rId20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77.xml"/><Relationship Id="rId7" Type="http://schemas.openxmlformats.org/officeDocument/2006/relationships/slideLayout" Target="../slideLayouts/slideLayout278.xml"/><Relationship Id="rId8" Type="http://schemas.openxmlformats.org/officeDocument/2006/relationships/slideLayout" Target="../slideLayouts/slideLayout279.xml"/><Relationship Id="rId9" Type="http://schemas.openxmlformats.org/officeDocument/2006/relationships/slideLayout" Target="../slideLayouts/slideLayout280.xml"/><Relationship Id="rId10" Type="http://schemas.openxmlformats.org/officeDocument/2006/relationships/slideLayout" Target="../slideLayouts/slideLayout281.xml"/><Relationship Id="rId11" Type="http://schemas.openxmlformats.org/officeDocument/2006/relationships/slideLayout" Target="../slideLayouts/slideLayout282.xml"/><Relationship Id="rId12" Type="http://schemas.openxmlformats.org/officeDocument/2006/relationships/slideLayout" Target="../slideLayouts/slideLayout283.xml"/><Relationship Id="rId13" Type="http://schemas.openxmlformats.org/officeDocument/2006/relationships/slideLayout" Target="../slideLayouts/slideLayout284.xml"/><Relationship Id="rId14" Type="http://schemas.openxmlformats.org/officeDocument/2006/relationships/slideLayout" Target="../slideLayouts/slideLayout285.xml"/><Relationship Id="rId15" Type="http://schemas.openxmlformats.org/officeDocument/2006/relationships/slideLayout" Target="../slideLayouts/slideLayout286.xml"/><Relationship Id="rId16" Type="http://schemas.openxmlformats.org/officeDocument/2006/relationships/slideLayout" Target="../slideLayouts/slideLayout287.xml"/><Relationship Id="rId17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89.xml"/><Relationship Id="rId7" Type="http://schemas.openxmlformats.org/officeDocument/2006/relationships/slideLayout" Target="../slideLayouts/slideLayout290.xml"/><Relationship Id="rId8" Type="http://schemas.openxmlformats.org/officeDocument/2006/relationships/slideLayout" Target="../slideLayouts/slideLayout291.xml"/><Relationship Id="rId9" Type="http://schemas.openxmlformats.org/officeDocument/2006/relationships/slideLayout" Target="../slideLayouts/slideLayout292.xml"/><Relationship Id="rId10" Type="http://schemas.openxmlformats.org/officeDocument/2006/relationships/slideLayout" Target="../slideLayouts/slideLayout293.xml"/><Relationship Id="rId11" Type="http://schemas.openxmlformats.org/officeDocument/2006/relationships/slideLayout" Target="../slideLayouts/slideLayout294.xml"/><Relationship Id="rId12" Type="http://schemas.openxmlformats.org/officeDocument/2006/relationships/slideLayout" Target="../slideLayouts/slideLayout295.xml"/><Relationship Id="rId13" Type="http://schemas.openxmlformats.org/officeDocument/2006/relationships/slideLayout" Target="../slideLayouts/slideLayout296.xml"/><Relationship Id="rId14" Type="http://schemas.openxmlformats.org/officeDocument/2006/relationships/slideLayout" Target="../slideLayouts/slideLayout297.xml"/><Relationship Id="rId15" Type="http://schemas.openxmlformats.org/officeDocument/2006/relationships/slideLayout" Target="../slideLayouts/slideLayout298.xml"/><Relationship Id="rId16" Type="http://schemas.openxmlformats.org/officeDocument/2006/relationships/slideLayout" Target="../slideLayouts/slideLayout299.xml"/><Relationship Id="rId17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01.xml"/><Relationship Id="rId10" Type="http://schemas.openxmlformats.org/officeDocument/2006/relationships/slideLayout" Target="../slideLayouts/slideLayout302.xml"/><Relationship Id="rId11" Type="http://schemas.openxmlformats.org/officeDocument/2006/relationships/slideLayout" Target="../slideLayouts/slideLayout303.xml"/><Relationship Id="rId12" Type="http://schemas.openxmlformats.org/officeDocument/2006/relationships/slideLayout" Target="../slideLayouts/slideLayout304.xml"/><Relationship Id="rId13" Type="http://schemas.openxmlformats.org/officeDocument/2006/relationships/slideLayout" Target="../slideLayouts/slideLayout305.xml"/><Relationship Id="rId14" Type="http://schemas.openxmlformats.org/officeDocument/2006/relationships/slideLayout" Target="../slideLayouts/slideLayout306.xml"/><Relationship Id="rId15" Type="http://schemas.openxmlformats.org/officeDocument/2006/relationships/slideLayout" Target="../slideLayouts/slideLayout307.xml"/><Relationship Id="rId16" Type="http://schemas.openxmlformats.org/officeDocument/2006/relationships/slideLayout" Target="../slideLayouts/slideLayout308.xml"/><Relationship Id="rId17" Type="http://schemas.openxmlformats.org/officeDocument/2006/relationships/slideLayout" Target="../slideLayouts/slideLayout309.xml"/><Relationship Id="rId18" Type="http://schemas.openxmlformats.org/officeDocument/2006/relationships/slideLayout" Target="../slideLayouts/slideLayout310.xml"/><Relationship Id="rId19" Type="http://schemas.openxmlformats.org/officeDocument/2006/relationships/slideLayout" Target="../slideLayouts/slideLayout311.xml"/><Relationship Id="rId20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13.xml"/><Relationship Id="rId7" Type="http://schemas.openxmlformats.org/officeDocument/2006/relationships/slideLayout" Target="../slideLayouts/slideLayout314.xml"/><Relationship Id="rId8" Type="http://schemas.openxmlformats.org/officeDocument/2006/relationships/slideLayout" Target="../slideLayouts/slideLayout315.xml"/><Relationship Id="rId9" Type="http://schemas.openxmlformats.org/officeDocument/2006/relationships/slideLayout" Target="../slideLayouts/slideLayout316.xml"/><Relationship Id="rId10" Type="http://schemas.openxmlformats.org/officeDocument/2006/relationships/slideLayout" Target="../slideLayouts/slideLayout317.xml"/><Relationship Id="rId11" Type="http://schemas.openxmlformats.org/officeDocument/2006/relationships/slideLayout" Target="../slideLayouts/slideLayout318.xml"/><Relationship Id="rId12" Type="http://schemas.openxmlformats.org/officeDocument/2006/relationships/slideLayout" Target="../slideLayouts/slideLayout319.xml"/><Relationship Id="rId13" Type="http://schemas.openxmlformats.org/officeDocument/2006/relationships/slideLayout" Target="../slideLayouts/slideLayout320.xml"/><Relationship Id="rId14" Type="http://schemas.openxmlformats.org/officeDocument/2006/relationships/slideLayout" Target="../slideLayouts/slideLayout321.xml"/><Relationship Id="rId15" Type="http://schemas.openxmlformats.org/officeDocument/2006/relationships/slideLayout" Target="../slideLayouts/slideLayout322.xml"/><Relationship Id="rId16" Type="http://schemas.openxmlformats.org/officeDocument/2006/relationships/slideLayout" Target="../slideLayouts/slideLayout323.xml"/><Relationship Id="rId17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25.xml"/><Relationship Id="rId7" Type="http://schemas.openxmlformats.org/officeDocument/2006/relationships/slideLayout" Target="../slideLayouts/slideLayout326.xml"/><Relationship Id="rId8" Type="http://schemas.openxmlformats.org/officeDocument/2006/relationships/slideLayout" Target="../slideLayouts/slideLayout327.xml"/><Relationship Id="rId9" Type="http://schemas.openxmlformats.org/officeDocument/2006/relationships/slideLayout" Target="../slideLayouts/slideLayout328.xml"/><Relationship Id="rId10" Type="http://schemas.openxmlformats.org/officeDocument/2006/relationships/slideLayout" Target="../slideLayouts/slideLayout329.xml"/><Relationship Id="rId11" Type="http://schemas.openxmlformats.org/officeDocument/2006/relationships/slideLayout" Target="../slideLayouts/slideLayout330.xml"/><Relationship Id="rId12" Type="http://schemas.openxmlformats.org/officeDocument/2006/relationships/slideLayout" Target="../slideLayouts/slideLayout331.xml"/><Relationship Id="rId13" Type="http://schemas.openxmlformats.org/officeDocument/2006/relationships/slideLayout" Target="../slideLayouts/slideLayout332.xml"/><Relationship Id="rId14" Type="http://schemas.openxmlformats.org/officeDocument/2006/relationships/slideLayout" Target="../slideLayouts/slideLayout333.xml"/><Relationship Id="rId15" Type="http://schemas.openxmlformats.org/officeDocument/2006/relationships/slideLayout" Target="../slideLayouts/slideLayout334.xml"/><Relationship Id="rId16" Type="http://schemas.openxmlformats.org/officeDocument/2006/relationships/slideLayout" Target="../slideLayouts/slideLayout335.xml"/><Relationship Id="rId17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37.xml"/><Relationship Id="rId10" Type="http://schemas.openxmlformats.org/officeDocument/2006/relationships/slideLayout" Target="../slideLayouts/slideLayout338.xml"/><Relationship Id="rId11" Type="http://schemas.openxmlformats.org/officeDocument/2006/relationships/slideLayout" Target="../slideLayouts/slideLayout339.xml"/><Relationship Id="rId12" Type="http://schemas.openxmlformats.org/officeDocument/2006/relationships/slideLayout" Target="../slideLayouts/slideLayout340.xml"/><Relationship Id="rId13" Type="http://schemas.openxmlformats.org/officeDocument/2006/relationships/slideLayout" Target="../slideLayouts/slideLayout341.xml"/><Relationship Id="rId14" Type="http://schemas.openxmlformats.org/officeDocument/2006/relationships/slideLayout" Target="../slideLayouts/slideLayout342.xml"/><Relationship Id="rId15" Type="http://schemas.openxmlformats.org/officeDocument/2006/relationships/slideLayout" Target="../slideLayouts/slideLayout343.xml"/><Relationship Id="rId16" Type="http://schemas.openxmlformats.org/officeDocument/2006/relationships/slideLayout" Target="../slideLayouts/slideLayout344.xml"/><Relationship Id="rId17" Type="http://schemas.openxmlformats.org/officeDocument/2006/relationships/slideLayout" Target="../slideLayouts/slideLayout345.xml"/><Relationship Id="rId18" Type="http://schemas.openxmlformats.org/officeDocument/2006/relationships/slideLayout" Target="../slideLayouts/slideLayout346.xml"/><Relationship Id="rId19" Type="http://schemas.openxmlformats.org/officeDocument/2006/relationships/slideLayout" Target="../slideLayouts/slideLayout347.xml"/><Relationship Id="rId20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49.xml"/><Relationship Id="rId7" Type="http://schemas.openxmlformats.org/officeDocument/2006/relationships/slideLayout" Target="../slideLayouts/slideLayout350.xml"/><Relationship Id="rId8" Type="http://schemas.openxmlformats.org/officeDocument/2006/relationships/slideLayout" Target="../slideLayouts/slideLayout351.xml"/><Relationship Id="rId9" Type="http://schemas.openxmlformats.org/officeDocument/2006/relationships/slideLayout" Target="../slideLayouts/slideLayout352.xml"/><Relationship Id="rId10" Type="http://schemas.openxmlformats.org/officeDocument/2006/relationships/slideLayout" Target="../slideLayouts/slideLayout353.xml"/><Relationship Id="rId11" Type="http://schemas.openxmlformats.org/officeDocument/2006/relationships/slideLayout" Target="../slideLayouts/slideLayout354.xml"/><Relationship Id="rId12" Type="http://schemas.openxmlformats.org/officeDocument/2006/relationships/slideLayout" Target="../slideLayouts/slideLayout355.xml"/><Relationship Id="rId13" Type="http://schemas.openxmlformats.org/officeDocument/2006/relationships/slideLayout" Target="../slideLayouts/slideLayout356.xml"/><Relationship Id="rId14" Type="http://schemas.openxmlformats.org/officeDocument/2006/relationships/slideLayout" Target="../slideLayouts/slideLayout357.xml"/><Relationship Id="rId15" Type="http://schemas.openxmlformats.org/officeDocument/2006/relationships/slideLayout" Target="../slideLayouts/slideLayout358.xml"/><Relationship Id="rId16" Type="http://schemas.openxmlformats.org/officeDocument/2006/relationships/slideLayout" Target="../slideLayouts/slideLayout359.xml"/><Relationship Id="rId17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61.xml"/><Relationship Id="rId7" Type="http://schemas.openxmlformats.org/officeDocument/2006/relationships/slideLayout" Target="../slideLayouts/slideLayout362.xml"/><Relationship Id="rId8" Type="http://schemas.openxmlformats.org/officeDocument/2006/relationships/slideLayout" Target="../slideLayouts/slideLayout363.xml"/><Relationship Id="rId9" Type="http://schemas.openxmlformats.org/officeDocument/2006/relationships/slideLayout" Target="../slideLayouts/slideLayout364.xml"/><Relationship Id="rId10" Type="http://schemas.openxmlformats.org/officeDocument/2006/relationships/slideLayout" Target="../slideLayouts/slideLayout365.xml"/><Relationship Id="rId11" Type="http://schemas.openxmlformats.org/officeDocument/2006/relationships/slideLayout" Target="../slideLayouts/slideLayout366.xml"/><Relationship Id="rId12" Type="http://schemas.openxmlformats.org/officeDocument/2006/relationships/slideLayout" Target="../slideLayouts/slideLayout367.xml"/><Relationship Id="rId13" Type="http://schemas.openxmlformats.org/officeDocument/2006/relationships/slideLayout" Target="../slideLayouts/slideLayout368.xml"/><Relationship Id="rId14" Type="http://schemas.openxmlformats.org/officeDocument/2006/relationships/slideLayout" Target="../slideLayouts/slideLayout369.xml"/><Relationship Id="rId15" Type="http://schemas.openxmlformats.org/officeDocument/2006/relationships/slideLayout" Target="../slideLayouts/slideLayout370.xml"/><Relationship Id="rId16" Type="http://schemas.openxmlformats.org/officeDocument/2006/relationships/slideLayout" Target="../slideLayouts/slideLayout371.xml"/><Relationship Id="rId17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3.xml"/><Relationship Id="rId10" Type="http://schemas.openxmlformats.org/officeDocument/2006/relationships/slideLayout" Target="../slideLayouts/slideLayout374.xml"/><Relationship Id="rId11" Type="http://schemas.openxmlformats.org/officeDocument/2006/relationships/slideLayout" Target="../slideLayouts/slideLayout375.xml"/><Relationship Id="rId12" Type="http://schemas.openxmlformats.org/officeDocument/2006/relationships/slideLayout" Target="../slideLayouts/slideLayout376.xml"/><Relationship Id="rId13" Type="http://schemas.openxmlformats.org/officeDocument/2006/relationships/slideLayout" Target="../slideLayouts/slideLayout377.xml"/><Relationship Id="rId14" Type="http://schemas.openxmlformats.org/officeDocument/2006/relationships/slideLayout" Target="../slideLayouts/slideLayout378.xml"/><Relationship Id="rId15" Type="http://schemas.openxmlformats.org/officeDocument/2006/relationships/slideLayout" Target="../slideLayouts/slideLayout379.xml"/><Relationship Id="rId16" Type="http://schemas.openxmlformats.org/officeDocument/2006/relationships/slideLayout" Target="../slideLayouts/slideLayout380.xml"/><Relationship Id="rId17" Type="http://schemas.openxmlformats.org/officeDocument/2006/relationships/slideLayout" Target="../slideLayouts/slideLayout381.xml"/><Relationship Id="rId18" Type="http://schemas.openxmlformats.org/officeDocument/2006/relationships/slideLayout" Target="../slideLayouts/slideLayout382.xml"/><Relationship Id="rId19" Type="http://schemas.openxmlformats.org/officeDocument/2006/relationships/slideLayout" Target="../slideLayouts/slideLayout383.xml"/><Relationship Id="rId20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85.xml"/><Relationship Id="rId7" Type="http://schemas.openxmlformats.org/officeDocument/2006/relationships/slideLayout" Target="../slideLayouts/slideLayout386.xml"/><Relationship Id="rId8" Type="http://schemas.openxmlformats.org/officeDocument/2006/relationships/slideLayout" Target="../slideLayouts/slideLayout387.xml"/><Relationship Id="rId9" Type="http://schemas.openxmlformats.org/officeDocument/2006/relationships/slideLayout" Target="../slideLayouts/slideLayout388.xml"/><Relationship Id="rId10" Type="http://schemas.openxmlformats.org/officeDocument/2006/relationships/slideLayout" Target="../slideLayouts/slideLayout389.xml"/><Relationship Id="rId11" Type="http://schemas.openxmlformats.org/officeDocument/2006/relationships/slideLayout" Target="../slideLayouts/slideLayout390.xml"/><Relationship Id="rId12" Type="http://schemas.openxmlformats.org/officeDocument/2006/relationships/slideLayout" Target="../slideLayouts/slideLayout391.xml"/><Relationship Id="rId13" Type="http://schemas.openxmlformats.org/officeDocument/2006/relationships/slideLayout" Target="../slideLayouts/slideLayout392.xml"/><Relationship Id="rId14" Type="http://schemas.openxmlformats.org/officeDocument/2006/relationships/slideLayout" Target="../slideLayouts/slideLayout393.xml"/><Relationship Id="rId15" Type="http://schemas.openxmlformats.org/officeDocument/2006/relationships/slideLayout" Target="../slideLayouts/slideLayout394.xml"/><Relationship Id="rId16" Type="http://schemas.openxmlformats.org/officeDocument/2006/relationships/slideLayout" Target="../slideLayouts/slideLayout395.xml"/><Relationship Id="rId17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97.xml"/><Relationship Id="rId7" Type="http://schemas.openxmlformats.org/officeDocument/2006/relationships/slideLayout" Target="../slideLayouts/slideLayout398.xml"/><Relationship Id="rId8" Type="http://schemas.openxmlformats.org/officeDocument/2006/relationships/slideLayout" Target="../slideLayouts/slideLayout399.xml"/><Relationship Id="rId9" Type="http://schemas.openxmlformats.org/officeDocument/2006/relationships/slideLayout" Target="../slideLayouts/slideLayout400.xml"/><Relationship Id="rId10" Type="http://schemas.openxmlformats.org/officeDocument/2006/relationships/slideLayout" Target="../slideLayouts/slideLayout401.xml"/><Relationship Id="rId11" Type="http://schemas.openxmlformats.org/officeDocument/2006/relationships/slideLayout" Target="../slideLayouts/slideLayout402.xml"/><Relationship Id="rId12" Type="http://schemas.openxmlformats.org/officeDocument/2006/relationships/slideLayout" Target="../slideLayouts/slideLayout403.xml"/><Relationship Id="rId13" Type="http://schemas.openxmlformats.org/officeDocument/2006/relationships/slideLayout" Target="../slideLayouts/slideLayout404.xml"/><Relationship Id="rId14" Type="http://schemas.openxmlformats.org/officeDocument/2006/relationships/slideLayout" Target="../slideLayouts/slideLayout405.xml"/><Relationship Id="rId15" Type="http://schemas.openxmlformats.org/officeDocument/2006/relationships/slideLayout" Target="../slideLayouts/slideLayout406.xml"/><Relationship Id="rId16" Type="http://schemas.openxmlformats.org/officeDocument/2006/relationships/slideLayout" Target="../slideLayouts/slideLayout407.xml"/><Relationship Id="rId17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09.xml"/><Relationship Id="rId10" Type="http://schemas.openxmlformats.org/officeDocument/2006/relationships/slideLayout" Target="../slideLayouts/slideLayout410.xml"/><Relationship Id="rId11" Type="http://schemas.openxmlformats.org/officeDocument/2006/relationships/slideLayout" Target="../slideLayouts/slideLayout411.xml"/><Relationship Id="rId12" Type="http://schemas.openxmlformats.org/officeDocument/2006/relationships/slideLayout" Target="../slideLayouts/slideLayout412.xml"/><Relationship Id="rId13" Type="http://schemas.openxmlformats.org/officeDocument/2006/relationships/slideLayout" Target="../slideLayouts/slideLayout413.xml"/><Relationship Id="rId14" Type="http://schemas.openxmlformats.org/officeDocument/2006/relationships/slideLayout" Target="../slideLayouts/slideLayout414.xml"/><Relationship Id="rId15" Type="http://schemas.openxmlformats.org/officeDocument/2006/relationships/slideLayout" Target="../slideLayouts/slideLayout415.xml"/><Relationship Id="rId16" Type="http://schemas.openxmlformats.org/officeDocument/2006/relationships/slideLayout" Target="../slideLayouts/slideLayout416.xml"/><Relationship Id="rId17" Type="http://schemas.openxmlformats.org/officeDocument/2006/relationships/slideLayout" Target="../slideLayouts/slideLayout417.xml"/><Relationship Id="rId18" Type="http://schemas.openxmlformats.org/officeDocument/2006/relationships/slideLayout" Target="../slideLayouts/slideLayout418.xml"/><Relationship Id="rId19" Type="http://schemas.openxmlformats.org/officeDocument/2006/relationships/slideLayout" Target="../slideLayouts/slideLayout419.xml"/><Relationship Id="rId20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21.xml"/><Relationship Id="rId7" Type="http://schemas.openxmlformats.org/officeDocument/2006/relationships/slideLayout" Target="../slideLayouts/slideLayout422.xml"/><Relationship Id="rId8" Type="http://schemas.openxmlformats.org/officeDocument/2006/relationships/slideLayout" Target="../slideLayouts/slideLayout423.xml"/><Relationship Id="rId9" Type="http://schemas.openxmlformats.org/officeDocument/2006/relationships/slideLayout" Target="../slideLayouts/slideLayout424.xml"/><Relationship Id="rId10" Type="http://schemas.openxmlformats.org/officeDocument/2006/relationships/slideLayout" Target="../slideLayouts/slideLayout425.xml"/><Relationship Id="rId11" Type="http://schemas.openxmlformats.org/officeDocument/2006/relationships/slideLayout" Target="../slideLayouts/slideLayout426.xml"/><Relationship Id="rId12" Type="http://schemas.openxmlformats.org/officeDocument/2006/relationships/slideLayout" Target="../slideLayouts/slideLayout427.xml"/><Relationship Id="rId13" Type="http://schemas.openxmlformats.org/officeDocument/2006/relationships/slideLayout" Target="../slideLayouts/slideLayout428.xml"/><Relationship Id="rId14" Type="http://schemas.openxmlformats.org/officeDocument/2006/relationships/slideLayout" Target="../slideLayouts/slideLayout429.xml"/><Relationship Id="rId15" Type="http://schemas.openxmlformats.org/officeDocument/2006/relationships/slideLayout" Target="../slideLayouts/slideLayout430.xml"/><Relationship Id="rId16" Type="http://schemas.openxmlformats.org/officeDocument/2006/relationships/slideLayout" Target="../slideLayouts/slideLayout431.xml"/><Relationship Id="rId17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D9E3-1693-4906-93F0-B3B4E94513B4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460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2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463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5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6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67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9EBF-EFA7-44AC-8210-31020C9D8AE0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1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1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0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1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3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24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6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28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77D4-01BD-477A-AFB9-23356896BB68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72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4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75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7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8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79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7C0B-921E-4FF2-8034-1EAA382B1BC8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623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5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626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9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630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3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3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3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DD51-1DFD-45D3-8DF0-A61CF1338846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67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67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681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3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684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6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687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9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691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4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4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4517-E9F7-4454-B637-7FFF181AD6B5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73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7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738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0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1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742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dt" idx="4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ftr" idx="4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sldNum" idx="4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84F6-73AF-4009-BE84-C3F0418EF54C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786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789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2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793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4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4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4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9F28-BACE-4185-980C-BF29FDFC5E19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83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9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840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2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3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44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6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847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850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2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3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54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4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5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5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0390-098C-4F3B-8604-6141F6B5AAA8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9"/>
    <p:sldLayoutId id="2147483858" r:id="rId10"/>
    <p:sldLayoutId id="2147483859" r:id="rId11"/>
    <p:sldLayoutId id="2147483860" r:id="rId12"/>
    <p:sldLayoutId id="2147483861" r:id="rId13"/>
    <p:sldLayoutId id="2147483862" r:id="rId14"/>
    <p:sldLayoutId id="2147483863" r:id="rId15"/>
    <p:sldLayoutId id="2147483864" r:id="rId16"/>
    <p:sldLayoutId id="2147483865" r:id="rId17"/>
    <p:sldLayoutId id="2147483866" r:id="rId18"/>
    <p:sldLayoutId id="2147483867" r:id="rId19"/>
    <p:sldLayoutId id="2147483868" r:id="rId20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898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0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901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3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4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905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dt" idx="5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ftr" idx="5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 type="sldNum" idx="5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1348-8269-47C2-98B9-4FBB51FC2077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949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1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952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3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4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5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956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5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5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5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7DB2-8C2A-45A1-99F9-CE0A83A94533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8EEE-EA60-4969-BC7B-3A1E4670BCE0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9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00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1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2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03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5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6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007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9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010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1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2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013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4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5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6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017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 type="dt" idx="5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 type="ftr" idx="5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 type="sldNum" idx="6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2EA0-B8F3-4440-923C-3932D00E3737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9"/>
    <p:sldLayoutId id="2147483897" r:id="rId10"/>
    <p:sldLayoutId id="2147483898" r:id="rId11"/>
    <p:sldLayoutId id="2147483899" r:id="rId12"/>
    <p:sldLayoutId id="2147483900" r:id="rId13"/>
    <p:sldLayoutId id="2147483901" r:id="rId14"/>
    <p:sldLayoutId id="2147483902" r:id="rId15"/>
    <p:sldLayoutId id="2147483903" r:id="rId16"/>
    <p:sldLayoutId id="2147483904" r:id="rId17"/>
    <p:sldLayoutId id="2147483905" r:id="rId18"/>
    <p:sldLayoutId id="2147483906" r:id="rId19"/>
    <p:sldLayoutId id="2147483907" r:id="rId20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0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06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2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3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064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5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6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7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068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6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6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6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0FC1-0953-49E0-A67F-C253BCDBFA38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1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1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1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 type="dt" idx="6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 type="ftr" idx="6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 type="sldNum" idx="6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2E3C-A6FC-4E78-97CC-67D15FE1E32B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16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16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7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7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7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8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 type="dt" idx="6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 type="ftr" idx="6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 type="sldNum" idx="6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A331-A535-43ED-987D-4648FCF1B7FF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9"/>
    <p:sldLayoutId id="2147483936" r:id="rId10"/>
    <p:sldLayoutId id="2147483937" r:id="rId11"/>
    <p:sldLayoutId id="2147483938" r:id="rId12"/>
    <p:sldLayoutId id="2147483939" r:id="rId13"/>
    <p:sldLayoutId id="2147483940" r:id="rId14"/>
    <p:sldLayoutId id="2147483941" r:id="rId15"/>
    <p:sldLayoutId id="2147483942" r:id="rId16"/>
    <p:sldLayoutId id="2147483943" r:id="rId17"/>
    <p:sldLayoutId id="2147483944" r:id="rId18"/>
    <p:sldLayoutId id="2147483945" r:id="rId19"/>
    <p:sldLayoutId id="2147483946" r:id="rId20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22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22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3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dt" idx="7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ftr" idx="7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sldNum" idx="7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BE98-44B4-4EFF-AD1B-CD541AE09299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6"/>
    <p:sldLayoutId id="2147483949" r:id="rId7"/>
    <p:sldLayoutId id="2147483950" r:id="rId8"/>
    <p:sldLayoutId id="2147483951" r:id="rId9"/>
    <p:sldLayoutId id="2147483952" r:id="rId10"/>
    <p:sldLayoutId id="2147483953" r:id="rId11"/>
    <p:sldLayoutId id="2147483954" r:id="rId12"/>
    <p:sldLayoutId id="2147483955" r:id="rId13"/>
    <p:sldLayoutId id="2147483956" r:id="rId14"/>
    <p:sldLayoutId id="2147483957" r:id="rId15"/>
    <p:sldLayoutId id="2147483958" r:id="rId16"/>
    <p:sldLayoutId id="2147483959" r:id="rId17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4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275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7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278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9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0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1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82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7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7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7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1FF5-ED25-42C9-8BC4-C0E377586577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6"/>
    <p:sldLayoutId id="2147483962" r:id="rId7"/>
    <p:sldLayoutId id="2147483963" r:id="rId8"/>
    <p:sldLayoutId id="2147483964" r:id="rId9"/>
    <p:sldLayoutId id="2147483965" r:id="rId10"/>
    <p:sldLayoutId id="2147483966" r:id="rId11"/>
    <p:sldLayoutId id="2147483967" r:id="rId12"/>
    <p:sldLayoutId id="2147483968" r:id="rId13"/>
    <p:sldLayoutId id="2147483969" r:id="rId14"/>
    <p:sldLayoutId id="2147483970" r:id="rId15"/>
    <p:sldLayoutId id="2147483971" r:id="rId16"/>
    <p:sldLayoutId id="2147483972" r:id="rId17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32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32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33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5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336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8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339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0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1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343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 type="dt" idx="7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 type="ftr" idx="7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 type="sldNum" idx="7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632B-BC01-4C5E-940D-09F814D3C9B8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9"/>
    <p:sldLayoutId id="2147483975" r:id="rId10"/>
    <p:sldLayoutId id="2147483976" r:id="rId11"/>
    <p:sldLayoutId id="2147483977" r:id="rId12"/>
    <p:sldLayoutId id="2147483978" r:id="rId13"/>
    <p:sldLayoutId id="2147483979" r:id="rId14"/>
    <p:sldLayoutId id="2147483980" r:id="rId15"/>
    <p:sldLayoutId id="2147483981" r:id="rId16"/>
    <p:sldLayoutId id="2147483982" r:id="rId17"/>
    <p:sldLayoutId id="2147483983" r:id="rId18"/>
    <p:sldLayoutId id="2147483984" r:id="rId19"/>
    <p:sldLayoutId id="2147483985" r:id="rId20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6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387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8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9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390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1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2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3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394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7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8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8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3F19-4DC7-44C4-B74C-B7F75CD32591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6"/>
    <p:sldLayoutId id="2147483988" r:id="rId7"/>
    <p:sldLayoutId id="2147483989" r:id="rId8"/>
    <p:sldLayoutId id="2147483990" r:id="rId9"/>
    <p:sldLayoutId id="2147483991" r:id="rId10"/>
    <p:sldLayoutId id="2147483992" r:id="rId11"/>
    <p:sldLayoutId id="2147483993" r:id="rId12"/>
    <p:sldLayoutId id="2147483994" r:id="rId13"/>
    <p:sldLayoutId id="2147483995" r:id="rId14"/>
    <p:sldLayoutId id="2147483996" r:id="rId15"/>
    <p:sldLayoutId id="2147483997" r:id="rId16"/>
    <p:sldLayoutId id="2147483998" r:id="rId17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7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438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0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441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2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3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4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445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 type="dt" idx="8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 type="ftr" idx="8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 type="sldNum" idx="8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DCAC-1C5F-41DD-9805-45443BFF2668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6"/>
    <p:sldLayoutId id="2147484001" r:id="rId7"/>
    <p:sldLayoutId id="2147484002" r:id="rId8"/>
    <p:sldLayoutId id="2147484003" r:id="rId9"/>
    <p:sldLayoutId id="2147484004" r:id="rId10"/>
    <p:sldLayoutId id="2147484005" r:id="rId11"/>
    <p:sldLayoutId id="2147484006" r:id="rId12"/>
    <p:sldLayoutId id="2147484007" r:id="rId13"/>
    <p:sldLayoutId id="2147484008" r:id="rId14"/>
    <p:sldLayoutId id="2147484009" r:id="rId15"/>
    <p:sldLayoutId id="2147484010" r:id="rId16"/>
    <p:sldLayoutId id="2147484011" r:id="rId17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8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48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0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1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492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3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4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5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496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8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499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1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02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3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4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5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06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 type="dt" idx="8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 type="ftr" idx="8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 type="sldNum" idx="8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C6A2-37D1-4EF1-817F-F5C5A855D231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9"/>
    <p:sldLayoutId id="2147484014" r:id="rId10"/>
    <p:sldLayoutId id="2147484015" r:id="rId11"/>
    <p:sldLayoutId id="2147484016" r:id="rId12"/>
    <p:sldLayoutId id="2147484017" r:id="rId13"/>
    <p:sldLayoutId id="2147484018" r:id="rId14"/>
    <p:sldLayoutId id="2147484019" r:id="rId15"/>
    <p:sldLayoutId id="2147484020" r:id="rId16"/>
    <p:sldLayoutId id="2147484021" r:id="rId17"/>
    <p:sldLayoutId id="2147484022" r:id="rId18"/>
    <p:sldLayoutId id="2147484023" r:id="rId19"/>
    <p:sldLayoutId id="2147484024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02D8-1865-4AFD-A3E0-43CCE9E61125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9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50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1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2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3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4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5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6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57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 type="dt" idx="8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 type="ftr" idx="8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5"/>
          <p:cNvSpPr>
            <a:spLocks noGrp="1"/>
          </p:cNvSpPr>
          <p:nvPr>
            <p:ph type="sldNum" idx="9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CAD3-77E6-4596-A52C-8F6B1C71161F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6"/>
    <p:sldLayoutId id="2147484027" r:id="rId7"/>
    <p:sldLayoutId id="2147484028" r:id="rId8"/>
    <p:sldLayoutId id="2147484029" r:id="rId9"/>
    <p:sldLayoutId id="2147484030" r:id="rId10"/>
    <p:sldLayoutId id="2147484031" r:id="rId11"/>
    <p:sldLayoutId id="2147484032" r:id="rId12"/>
    <p:sldLayoutId id="2147484033" r:id="rId13"/>
    <p:sldLayoutId id="2147484034" r:id="rId14"/>
    <p:sldLayoutId id="2147484035" r:id="rId15"/>
    <p:sldLayoutId id="2147484036" r:id="rId16"/>
    <p:sldLayoutId id="2147484037" r:id="rId17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0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01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2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3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04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5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6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7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608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 type="dt" idx="9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 type="ftr" idx="9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5"/>
          <p:cNvSpPr>
            <a:spLocks noGrp="1"/>
          </p:cNvSpPr>
          <p:nvPr>
            <p:ph type="sldNum" idx="9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31AF-6E2E-415F-BC3D-8FF807C3095E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6"/>
    <p:sldLayoutId id="2147484040" r:id="rId7"/>
    <p:sldLayoutId id="2147484041" r:id="rId8"/>
    <p:sldLayoutId id="2147484042" r:id="rId9"/>
    <p:sldLayoutId id="2147484043" r:id="rId10"/>
    <p:sldLayoutId id="2147484044" r:id="rId11"/>
    <p:sldLayoutId id="2147484045" r:id="rId12"/>
    <p:sldLayoutId id="2147484046" r:id="rId13"/>
    <p:sldLayoutId id="2147484047" r:id="rId14"/>
    <p:sldLayoutId id="2147484048" r:id="rId15"/>
    <p:sldLayoutId id="2147484049" r:id="rId16"/>
    <p:sldLayoutId id="2147484050" r:id="rId17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65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65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65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1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62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4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65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7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669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 type="dt" idx="9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 type="ftr" idx="9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5"/>
          <p:cNvSpPr>
            <a:spLocks noGrp="1"/>
          </p:cNvSpPr>
          <p:nvPr>
            <p:ph type="sldNum" idx="9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BB61-F631-41D8-9096-0FDF888838AE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9"/>
    <p:sldLayoutId id="2147484053" r:id="rId10"/>
    <p:sldLayoutId id="2147484054" r:id="rId11"/>
    <p:sldLayoutId id="2147484055" r:id="rId12"/>
    <p:sldLayoutId id="2147484056" r:id="rId13"/>
    <p:sldLayoutId id="2147484057" r:id="rId14"/>
    <p:sldLayoutId id="2147484058" r:id="rId15"/>
    <p:sldLayoutId id="2147484059" r:id="rId16"/>
    <p:sldLayoutId id="2147484060" r:id="rId17"/>
    <p:sldLayoutId id="2147484061" r:id="rId18"/>
    <p:sldLayoutId id="2147484062" r:id="rId19"/>
    <p:sldLayoutId id="2147484063" r:id="rId20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2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71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15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716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8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9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20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9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9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9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AA65-4A73-4649-A3B2-ADECBC3BF94B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6"/>
    <p:sldLayoutId id="2147484066" r:id="rId7"/>
    <p:sldLayoutId id="2147484067" r:id="rId8"/>
    <p:sldLayoutId id="2147484068" r:id="rId9"/>
    <p:sldLayoutId id="2147484069" r:id="rId10"/>
    <p:sldLayoutId id="2147484070" r:id="rId11"/>
    <p:sldLayoutId id="2147484071" r:id="rId12"/>
    <p:sldLayoutId id="2147484072" r:id="rId13"/>
    <p:sldLayoutId id="2147484073" r:id="rId14"/>
    <p:sldLayoutId id="2147484074" r:id="rId15"/>
    <p:sldLayoutId id="2147484075" r:id="rId16"/>
    <p:sldLayoutId id="2147484076" r:id="rId17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3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764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6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767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0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71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 type="dt" idx="10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 type="ftr" idx="10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5"/>
          <p:cNvSpPr>
            <a:spLocks noGrp="1"/>
          </p:cNvSpPr>
          <p:nvPr>
            <p:ph type="sldNum" idx="10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A239-7B31-4C28-AAF8-C0B841AA8D73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6"/>
    <p:sldLayoutId id="2147484079" r:id="rId7"/>
    <p:sldLayoutId id="2147484080" r:id="rId8"/>
    <p:sldLayoutId id="2147484081" r:id="rId9"/>
    <p:sldLayoutId id="2147484082" r:id="rId10"/>
    <p:sldLayoutId id="2147484083" r:id="rId11"/>
    <p:sldLayoutId id="2147484084" r:id="rId12"/>
    <p:sldLayoutId id="2147484085" r:id="rId13"/>
    <p:sldLayoutId id="2147484086" r:id="rId14"/>
    <p:sldLayoutId id="2147484087" r:id="rId15"/>
    <p:sldLayoutId id="2147484088" r:id="rId16"/>
    <p:sldLayoutId id="2147484089" r:id="rId17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8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8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8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4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825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7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828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9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0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832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 type="dt" idx="10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 type="ftr" idx="10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5"/>
          <p:cNvSpPr>
            <a:spLocks noGrp="1"/>
          </p:cNvSpPr>
          <p:nvPr>
            <p:ph type="sldNum" idx="10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B7F1-EC1C-478C-9CCC-18BC351FE916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9"/>
    <p:sldLayoutId id="2147484092" r:id="rId10"/>
    <p:sldLayoutId id="2147484093" r:id="rId11"/>
    <p:sldLayoutId id="2147484094" r:id="rId12"/>
    <p:sldLayoutId id="2147484095" r:id="rId13"/>
    <p:sldLayoutId id="2147484096" r:id="rId14"/>
    <p:sldLayoutId id="2147484097" r:id="rId15"/>
    <p:sldLayoutId id="2147484098" r:id="rId16"/>
    <p:sldLayoutId id="2147484099" r:id="rId17"/>
    <p:sldLayoutId id="2147484100" r:id="rId18"/>
    <p:sldLayoutId id="2147484101" r:id="rId19"/>
    <p:sldLayoutId id="2147484102" r:id="rId20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5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87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8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879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0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81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2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883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 type="dt" idx="10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 type="ftr" idx="10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 type="sldNum" idx="10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EC73-EBF1-484D-BAC9-54E82B6E2405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6"/>
    <p:sldLayoutId id="2147484105" r:id="rId7"/>
    <p:sldLayoutId id="2147484106" r:id="rId8"/>
    <p:sldLayoutId id="2147484107" r:id="rId9"/>
    <p:sldLayoutId id="2147484108" r:id="rId10"/>
    <p:sldLayoutId id="2147484109" r:id="rId11"/>
    <p:sldLayoutId id="2147484110" r:id="rId12"/>
    <p:sldLayoutId id="2147484111" r:id="rId13"/>
    <p:sldLayoutId id="2147484112" r:id="rId14"/>
    <p:sldLayoutId id="2147484113" r:id="rId15"/>
    <p:sldLayoutId id="2147484114" r:id="rId16"/>
    <p:sldLayoutId id="2147484115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5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5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61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F147-8D28-49D5-8AD8-4781CB2ECB7E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A0A0-35F4-4202-AEAD-F98F7262A792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5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5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6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5477-126B-401C-9D61-E97EDC19B2AC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30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310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2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3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14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27C9-4EC3-41EC-84E1-E7CEE47A933C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35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361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4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65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B950-BC86-4407-AA13-C7D5484AF16B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40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1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12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4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5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16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4116-4716-436B-AFF7-F19D951C0E8B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"/>
          <p:cNvSpPr txBox="1"/>
          <p:nvPr/>
        </p:nvSpPr>
        <p:spPr>
          <a:xfrm>
            <a:off x="250920" y="333360"/>
            <a:ext cx="8642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</a:rPr>
              <a:t>СРС №2. ДК каналы без памяти, с памятью. Краевые искажения и дробления. Методы регистрации сигналов.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Модели дискретных каналов связи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скретный канал всегда содержит внутри непрерывный канал. Преобразование непрерывного канала в дискретный производит модем. Поэтому в принципе можно получить математическую модель дискретного канала из модели непрерывного канала при заданном модеме. Образно говоря, модем, осуществляющий переход от непрерывного канала в поток ошибок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"/>
          <p:cNvSpPr txBox="1"/>
          <p:nvPr/>
        </p:nvSpPr>
        <p:spPr>
          <a:xfrm>
            <a:off x="324000" y="691920"/>
            <a:ext cx="8640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Наиболее важные и достаточно простые модели дискретных каналов следующи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тоянный симметричный канал без памяти определяется как дискретный канал, в котором каждый переданный кодовый символ может быть принят ошибочно с фиксированной вероятностью р и правильно с вероятностью 1-р, причём в случае ошибки вместо переданного символа может быть с равной вероятностью принят любой другой символ. Термин “без памяти” означает, что вероятность ошибочного приёма символа не зависит от предистории, т.е. от того, какие символы передавались до него и как они были приняты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"/>
          <p:cNvSpPr txBox="1"/>
          <p:nvPr/>
        </p:nvSpPr>
        <p:spPr>
          <a:xfrm>
            <a:off x="250560" y="333000"/>
            <a:ext cx="84978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Вероятности переходов в двоичном симметричном канале схематически можно представить в виде графа (рис.3.1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исунок 3.1. Переходные вероятности в двоичном симметричном канал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929" name="Picture 2" descr=""/>
          <p:cNvPicPr/>
          <p:nvPr/>
        </p:nvPicPr>
        <p:blipFill>
          <a:blip r:embed="rId2"/>
          <a:stretch/>
        </p:blipFill>
        <p:spPr>
          <a:xfrm>
            <a:off x="2556000" y="1916280"/>
            <a:ext cx="3887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"/>
          <p:cNvSpPr txBox="1"/>
          <p:nvPr/>
        </p:nvSpPr>
        <p:spPr>
          <a:xfrm>
            <a:off x="0" y="260280"/>
            <a:ext cx="8964720" cy="629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Постоянный симметричный канал без памяти со стиранием отличается от предыдущего канала тем, что алфавит на выходе канала содержит дополнительный (m+1)-й символ, который часто обозначают знаком “?”. Этот символ появляется тогда, когда демодулятор не может надёжно опознать переданный символ. Вероятность такого отказа от решения или стирания символа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в данной модели постоянна и не зависит от передаваемого символ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"/>
          <p:cNvSpPr txBox="1"/>
          <p:nvPr/>
        </p:nvSpPr>
        <p:spPr>
          <a:xfrm>
            <a:off x="250920" y="26028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.За счёт введения стирания удаётся значительно снизить вероятность ошибки, иногда её даже считают равной нулю. На рис.3.2 показаны вероятности переходов в такой модел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исунок 3.2. Переходные вероятности в двоичном симметричном канале со стиранием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симметричный канал без памяти характеризуется тем, что ошибки в нём возникают независимо друг от друга, однако вероятности ошибок зависят от того, какой символ передаётся. Так, в двоичном несимметричном канале вероятность приёма символа 1 при передаче символа 0 не равна вероятности приёма 0 при передаче 1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932" name="Picture 2" descr=""/>
          <p:cNvPicPr/>
          <p:nvPr/>
        </p:nvPicPr>
        <p:blipFill>
          <a:blip r:embed="rId2"/>
          <a:stretch/>
        </p:blipFill>
        <p:spPr>
          <a:xfrm>
            <a:off x="2556000" y="1498680"/>
            <a:ext cx="32400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"/>
          <p:cNvSpPr txBox="1"/>
          <p:nvPr/>
        </p:nvSpPr>
        <p:spPr>
          <a:xfrm>
            <a:off x="250920" y="25992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6.Простейшей моделью двоичного канала с памятью является марковская модель, определяемая матрицей переходных вероятностей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KZ Times New Roman"/>
                <a:ea typeface="Times New Roman"/>
              </a:rPr>
              <a:t>                           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KZ Times New Roman"/>
                <a:ea typeface="Times New Roman"/>
              </a:rPr>
              <a:t>                              </a:t>
            </a:r>
            <a:r>
              <a:rPr b="0" lang="ru-RU" sz="1600" spc="-1" strike="noStrike">
                <a:solidFill>
                  <a:srgbClr val="404040"/>
                </a:solidFill>
                <a:latin typeface="KZ Times New Roman"/>
                <a:ea typeface="Times New Roman"/>
              </a:rPr>
              <a:t>(3.1)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де р</a:t>
            </a:r>
            <a:r>
              <a:rPr b="0" lang="ru-RU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—условная вероятность принять (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+1)-й символ ошибочно, если предыдущий принят правильно; (1-р</a:t>
            </a:r>
            <a:r>
              <a:rPr b="0" lang="ru-RU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-условная вероятность принять (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+1)-й символ правильно, если предыдущий символ принят правильно; р</a:t>
            </a:r>
            <a:r>
              <a:rPr b="0" lang="ru-RU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условная вероятность принять (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+1)-й символ ошибочно, если предыдущий принят ошибочно; (1-р</a:t>
            </a:r>
            <a:r>
              <a:rPr b="0" lang="ru-RU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-условная вероятность принять (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+1)-й символ правильно, если предыдущий символ принят ошибочн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934" name="Picture 3" descr=""/>
          <p:cNvPicPr/>
          <p:nvPr/>
        </p:nvPicPr>
        <p:blipFill>
          <a:blip r:embed="rId2"/>
          <a:stretch/>
        </p:blipFill>
        <p:spPr>
          <a:xfrm>
            <a:off x="633240" y="1700280"/>
            <a:ext cx="237672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"/>
          <p:cNvSpPr txBox="1"/>
          <p:nvPr/>
        </p:nvSpPr>
        <p:spPr>
          <a:xfrm>
            <a:off x="394920" y="404280"/>
            <a:ext cx="80643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7.Безусловная (средняя) вероятность ошибки 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в таком канале должна удовлетворять уравнению:  р=Р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+З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1-р) Откуда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ругой подход к построению математических моделей каналов связан с методом переменных состояния. Важной особенностью этого метода является возможность непосредственного моделирования систем, описываемых уравнениями состояния с помощью аналогового или цифрового вычислительного устройства. Уравнения состояния обычно составляют в виде системы дифференциальных уравнений первого порядка, которую приводят к форме векторного (матричного) дифференциального уравнения первого порядка. Этот метод даёт универсальный подход для моделирования каналов передачи информации систем связи для самых различных сообщений, способов кодирования и модуляции, линий связи с детерминированными и случайными параметрами и аддитивными шум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936" name="Picture 2" descr=""/>
          <p:cNvPicPr/>
          <p:nvPr/>
        </p:nvPicPr>
        <p:blipFill>
          <a:blip r:embed="rId2"/>
          <a:stretch/>
        </p:blipFill>
        <p:spPr>
          <a:xfrm>
            <a:off x="717480" y="1413000"/>
            <a:ext cx="1871640" cy="728640"/>
          </a:xfrm>
          <a:prstGeom prst="rect">
            <a:avLst/>
          </a:prstGeom>
          <a:ln w="0">
            <a:noFill/>
          </a:ln>
        </p:spPr>
      </p:pic>
      <p:sp>
        <p:nvSpPr>
          <p:cNvPr id="1937" name="TextBox 4"/>
          <p:cNvSpPr/>
          <p:nvPr/>
        </p:nvSpPr>
        <p:spPr>
          <a:xfrm>
            <a:off x="3564000" y="155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(3.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 txBox="1"/>
          <p:nvPr/>
        </p:nvSpPr>
        <p:spPr>
          <a:xfrm>
            <a:off x="107640" y="333360"/>
            <a:ext cx="8496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Краевые искажения и дробления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 действием различных дестабилизирующих факторов: не идеальность характеристик НКС; действие помех, элементы сигнала могут искажаться по длительности, т. е. появляются краевые искажения и дроблен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дивидуальные КИ – смещения ЗМ относительно идеального значащего момента Относительные КИ – это индивидуальные, отнесенное к длительности единичного элемент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обладания – элементы одного знака удлиняются, а другого укорачиваются. Дробления – это искажения, при которых один элемент преобразуется в несколько более коротких (дробится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"/>
          <p:cNvSpPr txBox="1"/>
          <p:nvPr/>
        </p:nvSpPr>
        <p:spPr>
          <a:xfrm>
            <a:off x="250920" y="404280"/>
            <a:ext cx="8642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9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Методы регистрации сигналов. Процесс определения и запоминания значащей позиции сигнала данных – называется регистрацие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тод стробирования – значащая позиция принимаемого элемента определяются на основании анализа знака импульса в середине единичного интервала. Если индивидуальное КИ не превышает 0,5τ, то элемент регистрируются правильн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равляющая способность – это величина, на которую допускаются смещения ЗМ, не вызывающее неправильный прием элемента. Интегральный метод регистрации - решение о виде принятого элемента выносится на основании анализа напряжения на всем единичном интервал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идеальном случае (если единичный. элемент не искажен), то U</a:t>
            </a:r>
            <a:r>
              <a:rPr b="0" lang="ru-RU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вых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= 1; решением о «1» принимается при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</a:t>
            </a:r>
            <a:r>
              <a:rPr b="0" lang="kk-KZ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вых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&gt;= 0,5; решением о «0» принимается при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</a:t>
            </a:r>
            <a:r>
              <a:rPr b="0" lang="kk-KZ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вых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&lt; 0,5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2T10:27:31Z</dcterms:created>
  <dc:creator>Регина</dc:creator>
  <dc:description/>
  <dc:language>en-US</dc:language>
  <cp:lastModifiedBy>student</cp:lastModifiedBy>
  <dcterms:modified xsi:type="dcterms:W3CDTF">2014-05-23T09:12:17Z</dcterms:modified>
  <cp:revision>3</cp:revision>
  <dc:subject/>
  <dc:title>Презентация PowerPoint</dc:title>
</cp:coreProperties>
</file>